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36C-8289-4C84-AEE4-B31B2F97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61D-8115-44AC-A6BF-F8777EDE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B0288-01A5-4E45-B87E-198C198E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1B990-A00A-4331-84C4-8A71492D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22CB6-EB1D-4E5D-BD2E-090385C9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62C8A-641B-4B93-8A16-B75B7BBD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042EF-BD94-4778-A829-3749B6C7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83B3D-3AB4-4EFD-BF88-01AC22A5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9E64B-D8D8-4A8D-98DA-8D5B98E5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6FEA5-07DA-4908-A514-E3660E11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F68BC-9CB0-40CE-9F36-370BBD03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C155E-C79A-4192-A13B-E9A60695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1DF-9227-49C5-A298-299A2B3B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9B2E0-E188-4F48-86B7-4D56F185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E9F37-9F6A-4D54-AA98-E70B7B8F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E56F0-2BFE-4274-AB32-01F69869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E9514-11F2-494A-B4D1-D1AA7137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3BBFA-D254-40B3-9FD1-FFC8C847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977BF-D2C5-4952-85FC-66419E13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E31BA-52B0-4428-9F38-EFAB49A0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7AA88-E215-462C-917A-0A50FE2F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DBB16-5364-48D9-80DD-6418F52F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684A2-6926-4762-991D-29FB37DF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ACC-CBF9-4B7E-9631-F1CD4660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B42AB-08CB-4C98-9F8D-F4722953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F87AD-BCE3-4239-838A-ED5C9447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5AB53-3A54-443B-973D-83C58187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AE644-299F-4FDA-87EF-53BDA589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10A3E-3AA6-4C9B-BFB5-996D2289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854A0-D7D8-45ED-B1F3-CA108B23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D02B7-8EFB-4977-AC15-0C822E39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A4AA8-1872-45BA-AB10-919DEFFA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65F6D-7DE3-4759-BB78-A7ABC09C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A0E88-2B61-4CFF-86A8-B67FF09B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B9FD-7BF2-40A8-A71D-0650D61E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090B4-1E51-456F-A5CC-20DF697F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6C64B-309D-4F33-BB23-A02E77D0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A5069-EEB9-403C-A0A0-D294DAEA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750C5-E0F1-4670-B2BB-D98977EE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9F668-4AE6-4232-AB8F-C6AB0024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18602-0F05-41FB-A9FC-41EB0CFC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E2D03-8DFA-40BE-94AC-CF37E287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2AC90-C1E7-4895-9950-C6BCC4B8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06D3D-F846-4FAF-A064-010307A1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1606F-384A-4B8E-B134-0D42511F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1D1E-9358-4203-B333-2CEC0EF8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F767F-9CBD-4846-B22B-085296B6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95A48-D57A-430F-A079-D7C0343B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96202-80E0-438D-A825-03FCA5DD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18965-679D-4BC6-B2A1-6F867F9E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6CC6E-687F-490A-A84F-A1FA7814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EE825-FB88-485B-9E69-C95DB41A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3F08A-B26E-4A21-B825-1E3C2BDF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B1DD3-BB73-454C-BFAC-49DA0B57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632B8-2041-447D-9192-F518DFC2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2A1D4-D3F7-4211-AEE0-558402F3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427A-7D48-4E93-BAB0-519BEECD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85D2E-1E84-49BA-95ED-A8A6ADBE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50411-F9E5-44B3-B421-2D7B8E00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F3E4C-8303-41CF-92E6-9AE554F5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A3AC5-82AA-4664-B6B4-16774A32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15D89-6762-4E09-B729-0592687C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C1D5F-81C8-4F16-BE40-70DCB76E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6B3CF-6420-433B-9D9B-E6E9E66C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B6E1A-DF69-4B53-BF2C-E0E68742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80E67-00C1-4500-BBF3-3158D0D0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E7AC9-4595-4704-8B72-55D5FE20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D381-C1AD-4C9A-8701-0C16764F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A1758-99B2-41BC-9310-9C844621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24809-D7BB-4843-A73C-F96EA3DE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1732E-9BAC-4E2A-8698-9F1C1ADD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85CE8-04FD-41D0-8840-A57543A4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ED02D-E8F7-4B01-8235-B39CF7B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AFE15-4E15-41FD-9220-286FCDF0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8F0BC-7B37-4488-8F7E-A3F8ABBE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EA077-D142-4B5C-9A48-E05EA3A8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9A679-6B94-4176-853A-CBCE41FF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5C7BE-0AD4-4E03-9F83-E60D0AE2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F903-1A5C-4A78-92C5-F96B45BB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ED791-DC6A-4FD1-A30E-2EA9E33A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1B3130-D4A2-468E-8C03-1E2C26C3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C693E-F443-49A8-9BC4-D0A7F0AD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409F31-42CD-4DC1-A651-90920305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691B3-6CB9-4A5C-9F0C-B942F7F4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ECC16-E07C-4EC1-BFFC-A09BE643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45679-A05A-483D-A9B9-E84312D8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72D17-E7A1-4B14-AB66-CD05C068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DCD95-72D9-4045-85E2-1849B600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6CCCA-FDBA-4AB5-A521-42CA7AC1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1C97-C797-4290-B4CA-10A6ED5A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3DDDC-F249-40C1-B363-93487EF7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114CBC-57EB-41D6-86CA-230E39CA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52EA2-1D4E-4267-B6EB-CD672415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149E7-9B0F-48A0-B97E-27BFC9B1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1A7A4-6387-465B-9B97-BA6391CE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322CC-9CCF-4267-8C61-6192AFDA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0157B-E765-44CF-8EC3-EE5E3D1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10382-7352-4ABF-B9DA-958E2D14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5C6B02-FCAD-4783-851A-0DA8BB9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DE552-F4D4-4BD0-84B5-C0D6B19A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1CEA-DA57-425F-8F2F-7827614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299C5-7068-4D4C-9EFB-4A22DCB9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D0B87-C576-4F02-BD58-CAD92633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91D9F-A12A-4DBB-9EAA-2E8CA30B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EFCA7-4A92-48FC-BA73-520C8666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A35F8E-5232-426D-9134-0E3A27CC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26A27-1A3E-439F-8D2F-570B67B9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59AAA-BE16-4A3E-8B36-DB557359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3B7F9E-A436-4F0D-B1FA-A249D6DD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56986-5449-4389-AA97-FEF99B8D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5E00C1-7BDB-44BD-B995-1B33A23E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82C-F686-47A6-867E-72A93790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AD33-7E02-4716-B7F8-2A73DA52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FC86A-6B25-4B24-BF3F-AB197189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3888B-7959-48C0-96B2-ADB7A0A8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86C50-2DA1-4B2F-B2A3-92A3FAFD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907BA-107E-4537-8505-0930DA19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DD3A6-4E78-499E-BCAD-4690A6BD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6891-1B4E-4BB8-9E6F-BBAB8A85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2B83-7A67-4B48-8F92-3A65E439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D9A3-B676-408A-B998-A30DDEFE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6363-DC6D-4937-86A0-6CEF47E6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46C7-C4D0-4C7F-9F5A-5ACB3C81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9A9E-B5CF-4D43-B228-E10CEC62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2692-2E94-4AC5-9E99-736D09E2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A73F9-E849-4AAC-8066-A8B2C44D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3DB2-BCAE-4233-9452-AB148AAA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9DC-E429-43C1-B968-E9731446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25B4-1737-4C06-B310-C1552FF9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51E0-7C6D-4485-B4D2-ACCB7197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00C6-E7D1-4CA7-B31A-10829A7A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C851-738C-4EF6-A41E-5112F29F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C192-B7EA-4AAD-B45F-DF2729DE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E1619-07B9-40D1-A00C-F4B30054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7F8F-BCF2-4C59-83E1-2DADB771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C1B9-49EE-4019-9777-B9DA5DF0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F7E5-44BA-443E-994D-715CE726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AB667-F075-44A9-A3B5-ACB9C99A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FFA-CABA-42D4-A5D5-82DBDB7D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3F63-2041-4FBB-8A76-C980D5CF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9CCCC-75AE-42F5-A242-3DA25BFC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5F6BA-B61B-46BA-876C-58D45EFF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044D-6DA9-4A7A-A6FC-1213A8D1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FDA3-1623-4B5A-A1A1-1DAE18AF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753CB-E9A9-407F-9165-207EA40C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2998-60E0-4783-BC86-35B77EF2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0B847-963A-46FE-B6F2-2F9FBBFB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41EB-DC1C-463B-A8C5-81B79F8C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06A21-B375-42C7-91E4-113534A6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B84-7A64-4230-AE1B-FD7C4D03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D77FC-9765-49C6-8CAF-BE223FB9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F91EE-9D3A-497B-B557-5D63E73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E73A-EA31-4029-AB7F-EC9CCCA9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CD11D-E0C9-4F7A-B568-BEA9B454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B85C1-D221-4CF3-A5C5-F575359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D9B7B-D671-4C71-93F2-29FF0F7E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AB73B-D2E3-4D41-9DC0-D6938386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D924A-EF47-4361-A10E-2FF044BF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30140-D291-4BA7-AF1E-8BE7FAB3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FDA17-9D6D-456D-B1E7-02241A01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FD4-6142-4AAF-B26D-C729BF1B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4A56D-3CEA-4369-9CFF-05F9707A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9C192-6204-487C-9054-DA4B9490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3FC31-A541-4F26-B060-772BF722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0A22D-293E-4D67-B4D2-F1CCC711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81DB0-EED9-477E-B999-8EAD2A46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63DE2-EE5F-4201-A167-1D61B8DA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193AD-E652-4D95-A789-DB2194EA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68C4A-D3EE-453E-842B-46ABE841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B25DC-A8BF-4739-AA07-3B4AEC25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7BD06-E2CA-49D6-9D75-65ED3AAC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C20-DC86-448E-853F-054B474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A0055-8836-444E-8798-CD5E3D8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855C6-9998-46EE-8076-539613B8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23F83-FE70-4A3B-BA74-0CB4C65B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139DB-2809-4B1D-B5B7-792A0112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5B00A-8FDC-422C-8E21-53C17983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C1A98-B175-4F82-9CBB-5E2F56BC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D4FE1-7B61-4535-A966-3B0C4187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4B1E9-C47D-42B5-9E11-C2202F1A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98F4D-2B38-4729-8E20-C5F0504A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77A75-6F1E-4F69-AC7A-FBB30D5F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EA2-65AC-48B6-BCE6-DEE0F27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86B15-D3F4-454D-B3A7-663BE64C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83A51-B91D-4858-9F3C-591047C1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ECE4-1702-4FD7-9C1F-29BA7561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74D75-A4B4-4CBD-B51B-B5B6DB7D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8D51B-0D2D-4E5A-813A-BFA445F2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2589F-C6EB-4997-B638-131915A0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61479-A67E-4CFA-B966-5D498756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9EFF2-E668-4B07-BD02-5F1D43DB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4535A-2547-4B33-B776-C032659E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62340-AF98-4FFF-A182-0CC2B860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CCB-F875-4B59-9328-F787B190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03C7A-473B-462B-9B1C-F454BE40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8A0DC-5194-41E8-8EC5-FE50942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BB3BC-3B82-49CE-80E2-147A2B11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721E3-7DF9-45F7-A826-13632D1E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DC316-AC44-42F3-8739-BECBD2C3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8D51D-5266-49A7-BE6A-9C6E8FDD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975B7-CEA3-401A-8F63-3A5D1E2A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BBB20-7BDF-4E36-B617-07CC7A57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88F7B-7813-41A2-A3D3-B3751A5A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6A4EA-6470-4B2B-8EA5-6788E0B9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2CB78-D9EE-49A5-A63C-B7190764070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278E9-797E-43B7-B417-2B344BF7610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3930F-37FC-4077-8D94-3D07C3AEA92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99B54-5915-468F-943A-99B80030BF6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2CE95-2332-48CE-9232-4CED51C6CAE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794FA-90FF-41FD-B82A-48D4507B5FF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8758A-EE9C-48D2-8599-937B39491A9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3CB10-ADC6-414F-9B6A-2D1D9323FC7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8FFC5-919B-4DBE-B305-0E0B55E0E9B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35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C5682-53C3-4285-8072-A1CA3B33F7B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7E221-92D9-47BB-8181-DEC945A2581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7C1ED-8726-4B38-B1EA-79FA03FD45D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AE811-C8B3-484B-A862-DDE683E9B60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7B285-475A-45DD-92E0-9F8FA789B15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517FE-B6DA-4CA2-9277-B3B7FA5C0ED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FF5FD-6A83-4995-AFB4-1DEE3AA3B81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FB371-B5BF-44A0-B31D-8DEB526FD99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Century Gothic"/>
              </a:rPr>
              <a:t>HOUSES AND THE CONCEPT OF HOME FOR THE BRITISH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47764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pared by Group 2 (Olga Domnina, Anton Goncharov, Maria Kulaeva,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Daria Kurokhtina, Maria Mishakova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own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y often have three or more floors, including a basement or semi-basemen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re is great variety regarding both design and us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lthough they are usually terraced, those that are well-preserved and in a 'good' area may be thought </a:t>
            </a:r>
            <a:r>
              <a:rPr b="0" i="1" lang="en-US" sz="1800" spc="-1" strike="noStrike">
                <a:solidFill>
                  <a:srgbClr val="404040"/>
                </a:solidFill>
                <a:latin typeface="Century Gothic"/>
              </a:rPr>
              <a:t>highly desirabl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ny have been broken up into flats or rooms for rent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wo types: 'self-contained flats’ or ' bedsits'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lf-contained’ flats have washing and cooking facilitie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dsits'  i.e. bed-sitting rooms ; residents have one room to themselves and share washing and cooking facilities with other residen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flat – the least desirable home for the Britis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5" name="Рисунок 1" descr=""/>
          <p:cNvPicPr/>
          <p:nvPr/>
        </p:nvPicPr>
        <p:blipFill>
          <a:blip r:embed="rId1"/>
          <a:stretch/>
        </p:blipFill>
        <p:spPr>
          <a:xfrm>
            <a:off x="2801880" y="2298600"/>
            <a:ext cx="3213000" cy="4167360"/>
          </a:xfrm>
          <a:prstGeom prst="rect">
            <a:avLst/>
          </a:prstGeom>
          <a:ln w="0">
            <a:noFill/>
          </a:ln>
        </p:spPr>
      </p:pic>
      <p:pic>
        <p:nvPicPr>
          <p:cNvPr id="1206" name="Рисунок 3" descr=""/>
          <p:cNvPicPr/>
          <p:nvPr/>
        </p:nvPicPr>
        <p:blipFill>
          <a:blip r:embed="rId2"/>
          <a:stretch/>
        </p:blipFill>
        <p:spPr>
          <a:xfrm>
            <a:off x="7074000" y="2298600"/>
            <a:ext cx="30495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Block of flat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Located far beyond the city centre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Residential building consisting of apartment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oncrete is the most common building material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n walls with extremely poor soundproofing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elevator is accommodated due to number of floor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side the Houses and Flats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0" name="Содержимое 4" descr="http://3.bp.blogspot.com/-CL4cD0wVXtw/UZTGXNlMctI/AAAAAAAAAF0/VzfcVhiiiEI/s640/furniture.png"/>
          <p:cNvPicPr/>
          <p:nvPr/>
        </p:nvPicPr>
        <p:blipFill>
          <a:blip r:embed="rId1"/>
          <a:srcRect l="0" t="0" r="0" b="9850"/>
          <a:stretch/>
        </p:blipFill>
        <p:spPr>
          <a:xfrm>
            <a:off x="2589120" y="2340000"/>
            <a:ext cx="4313160" cy="3171960"/>
          </a:xfrm>
          <a:prstGeom prst="rect">
            <a:avLst/>
          </a:prstGeom>
          <a:ln w="0">
            <a:noFill/>
          </a:ln>
        </p:spPr>
      </p:pic>
      <p:pic>
        <p:nvPicPr>
          <p:cNvPr id="1211" name="Содержимое 5" descr="https://fs00.infourok.ru/images/doc/201/229673/img4.jpg"/>
          <p:cNvPicPr/>
          <p:nvPr/>
        </p:nvPicPr>
        <p:blipFill>
          <a:blip r:embed="rId2"/>
          <a:stretch/>
        </p:blipFill>
        <p:spPr>
          <a:xfrm>
            <a:off x="7167600" y="2332080"/>
            <a:ext cx="4287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side the Houses and Fla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ouses and flats are described in terms of numbers of bedrooms, e.g. a two-bedroom flat or a four-bedroom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n two-floor houses living room and kitchen are downstairs, bedrooms and bathroom are upstair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hildren usually have their own bedroom or may share a room with a brother or sister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re could be a basement – a part of a building consisting of rooms that are partly or completely below the level of the groun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studio is a small flat designed to be lived in by one or two people. It usually has one large room for sleeping and living in, a bathroom and possibly a small separate kitchen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few facts about </a:t>
            </a:r>
            <a:br>
              <a:rPr sz="3600"/>
            </a:b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owning and ren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desire to own the place where you live is almost universal in Britai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ouse prices are high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bout 70% of all the houses in the country are occupied by their owners and almost all of these were bought with a mortgag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alf of these are owned by people who have borrowed 80% (or even more) of their price and are now paying this money back month by month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normal arrangement is for the borrower to pay back the money over a period of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twenty to twenty-five year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fore the end of the 20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entury Gothic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century, most working-class people lived in rented accommoda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Picture 2" descr=""/>
          <p:cNvPicPr/>
          <p:nvPr/>
        </p:nvPicPr>
        <p:blipFill>
          <a:blip r:embed="rId1"/>
          <a:stretch/>
        </p:blipFill>
        <p:spPr>
          <a:xfrm>
            <a:off x="2343240" y="1042920"/>
            <a:ext cx="7245360" cy="434520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1"/>
          <p:cNvSpPr/>
          <p:nvPr/>
        </p:nvSpPr>
        <p:spPr>
          <a:xfrm>
            <a:off x="3630600" y="5643720"/>
            <a:ext cx="467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ource: General Household Survey(989-90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262626"/>
                </a:solidFill>
                <a:latin typeface="Century Gothic"/>
              </a:rPr>
              <a:t>Cost of Houses</a:t>
            </a:r>
            <a:r>
              <a:rPr b="0" lang="en-US" sz="2300" spc="-1" strike="noStrike">
                <a:solidFill>
                  <a:srgbClr val="262626"/>
                </a:solidFill>
                <a:latin typeface="Century Gothic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A big problem in England is the rising cost of houses. In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1989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first-time buyers paid an average of around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£40,000,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in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2001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this had more than doubled to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£85,000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and in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2006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to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£151,565.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2263320" y="2133360"/>
            <a:ext cx="4638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003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wage per year: £20,000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house price: over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£120,000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ost of Houses in 2005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verage Cost: £182,920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etached: £282,15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mi-detached: £169,074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erraced: £139,12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lat: £168,57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6945480" y="2125440"/>
            <a:ext cx="4559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00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wage per year: £23,244 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house price: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£184,924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ost of Houses in 200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verage Cost: £184,924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etached: £285,697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mi-detached: £170,650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erraced: £143,512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lat: £174,05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ypes of hous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detached house – the most desirab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semi-detached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terraced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town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lock of flats – the least desirab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references of the British are determined by their desire for privacy and the importance attached to ownership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detached house – the most desirable home for the Britis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1" name="Picture 2" descr="Картинки по запросу detached house перевод"/>
          <p:cNvPicPr/>
          <p:nvPr/>
        </p:nvPicPr>
        <p:blipFill>
          <a:blip r:embed="rId1"/>
          <a:stretch/>
        </p:blipFill>
        <p:spPr>
          <a:xfrm>
            <a:off x="2714760" y="2828880"/>
            <a:ext cx="3733560" cy="249876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8" descr="Картинки по запросу detached house"/>
          <p:cNvPicPr/>
          <p:nvPr/>
        </p:nvPicPr>
        <p:blipFill>
          <a:blip r:embed="rId2"/>
          <a:stretch/>
        </p:blipFill>
        <p:spPr>
          <a:xfrm>
            <a:off x="6724800" y="2828880"/>
            <a:ext cx="33350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etached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raditional building materials are used: brick for walls and slate for the roo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rregular, “non-classical” shape with all those little corners, making the house feel “cozy”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large front garden with trees and bushes, evoking not only the countryside but also giving greater privac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garage is hidden away so that it is not too obvious and doesn’t spoil the rural feel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front door cannot be easily seen from the stree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oo expensive for most peop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semi-detached house – the second best for the Britis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7" name="Picture 6" descr=""/>
          <p:cNvPicPr/>
          <p:nvPr/>
        </p:nvPicPr>
        <p:blipFill>
          <a:blip r:embed="rId1"/>
          <a:stretch/>
        </p:blipFill>
        <p:spPr>
          <a:xfrm>
            <a:off x="2592360" y="2533680"/>
            <a:ext cx="3681360" cy="27576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8" descr="Картинки по запросу semi-detached house"/>
          <p:cNvPicPr/>
          <p:nvPr/>
        </p:nvPicPr>
        <p:blipFill>
          <a:blip r:embed="rId2"/>
          <a:stretch/>
        </p:blipFill>
        <p:spPr>
          <a:xfrm>
            <a:off x="6669000" y="2533680"/>
            <a:ext cx="41436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Semi-detached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One building with two separate household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ach house is the mirror of the other, both inside and outsid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be found in the suburbs of cities and the outskirts of towns all over Britai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ach house has a separate front garde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t the sides, there is access to the back, where two separate gardens can also be foun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rick is the most common building materia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typical demi-detached house has two floors and three bedroo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terraced hou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3" name="Рисунок 2" descr=""/>
          <p:cNvPicPr/>
          <p:nvPr/>
        </p:nvPicPr>
        <p:blipFill>
          <a:blip r:embed="rId1"/>
          <a:stretch/>
        </p:blipFill>
        <p:spPr>
          <a:xfrm>
            <a:off x="2592360" y="1793880"/>
            <a:ext cx="4309920" cy="3319560"/>
          </a:xfrm>
          <a:prstGeom prst="rect">
            <a:avLst/>
          </a:prstGeom>
          <a:ln w="0">
            <a:noFill/>
          </a:ln>
        </p:spPr>
      </p:pic>
      <p:pic>
        <p:nvPicPr>
          <p:cNvPr id="1194" name="Рисунок 4" descr=""/>
          <p:cNvPicPr/>
          <p:nvPr/>
        </p:nvPicPr>
        <p:blipFill>
          <a:blip r:embed="rId2"/>
          <a:stretch/>
        </p:blipFill>
        <p:spPr>
          <a:xfrm>
            <a:off x="7066080" y="1793880"/>
            <a:ext cx="42544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erraced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two shared (party) walls except for end-of-terrace house unit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individual front doors and pedestrian access to dwellings, either directly off the street or from shared driveways or accessway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typically one to four storey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they can be converted into flats or remain as individual house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car parking is accommodated within the house (integral garage), in-curtilage(within shared access) or on stree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a private rear garden or patio and a front entrance area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consistency in front façade design, building line and skylin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clearly defined fronts and backs with fronts addressing public streets, spaces or accessways. Backs are contained to the rear, and are usually back-to-back in a perimeter block arrangement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          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town hou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9" name="Рисунок 1" descr=""/>
          <p:cNvPicPr/>
          <p:nvPr/>
        </p:nvPicPr>
        <p:blipFill>
          <a:blip r:embed="rId1"/>
          <a:stretch/>
        </p:blipFill>
        <p:spPr>
          <a:xfrm>
            <a:off x="987480" y="2251080"/>
            <a:ext cx="4695840" cy="3130560"/>
          </a:xfrm>
          <a:prstGeom prst="rect">
            <a:avLst/>
          </a:prstGeom>
          <a:ln w="0">
            <a:noFill/>
          </a:ln>
        </p:spPr>
      </p:pic>
      <p:pic>
        <p:nvPicPr>
          <p:cNvPr id="1200" name="Рисунок 2" descr=""/>
          <p:cNvPicPr/>
          <p:nvPr/>
        </p:nvPicPr>
        <p:blipFill>
          <a:blip r:embed="rId2"/>
          <a:stretch/>
        </p:blipFill>
        <p:spPr>
          <a:xfrm>
            <a:off x="6161040" y="2251080"/>
            <a:ext cx="46706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3T06:19:07Z</dcterms:created>
  <dc:creator>Kurokhtina, Daria</dc:creator>
  <dc:description/>
  <dc:language>en-US</dc:language>
  <cp:lastModifiedBy>Kurokhtina, Daria</cp:lastModifiedBy>
  <dcterms:modified xsi:type="dcterms:W3CDTF">2017-03-29T12:37:52Z</dcterms:modified>
  <cp:revision>25</cp:revision>
  <dc:subject/>
  <dc:title>HOUSES AND THE CONCEPT OF HOME FOR THE BRITISH</dc:title>
</cp:coreProperties>
</file>